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1CC-F7FF-427F-9C5D-53AAB440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DC7-551B-4611-A277-612CFE2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B8F-5227-40AD-835A-B50B8ACF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261-F1C8-493C-A23A-058F71AE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11A-7145-4704-8238-AB87FFAD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5C99-2F84-469E-B800-30F5530C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F7C7-5E30-4237-8081-546C744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87C0-93C5-4641-BF42-F393D13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E864-6B40-4130-9409-449DA6F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8F75-B461-49AD-ABDC-E14F5165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88EB-3BB4-49F2-A25B-CDC0997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F231-3EE5-4307-9653-E0969FDE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81B-B306-4E11-A356-1BF7B1B9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63AE-56CE-4B14-B296-5FA87BBA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2E1F-5410-403F-9A16-DB4C43C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D82A-31DF-4650-B567-059B343F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0942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58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9303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0942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58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DCA7-B4EC-401C-8721-D02605DD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5FB-05A3-41CB-837B-329DB5E8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BEB-3DD6-4DB5-806A-75B92FDB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4E2-CE43-4C9D-8CA8-3FBF09C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44520" y="12474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60ED-B95E-401C-9CE5-3B82C33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ED9-2B63-4967-A9BA-EC78D46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102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13E-2365-4659-8383-9B11E38C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03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102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03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A20-8B5F-484A-A548-46E5BF5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D4A-894E-4043-95F3-0713B3CA8CC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D70C-5854-44F0-A968-A33A2F0346FE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erdy"/>
              </a:rPr>
              <a:t>LANDFORMS AND WATER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Perdy"/>
              </a:rPr>
              <a:t>B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Perdy"/>
              </a:rPr>
              <a:t>Mr. 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Here you go with another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rrow body of water running over the l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30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Maybe you know thi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ep narrow valley with steep wa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7480" y="205740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Here is another one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evated land with sloping sides and rounded tops that are smaller than mountain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30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guessing you know what this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landform with a variety of activity undernea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tisse ITC"/>
              </a:rPr>
              <a:t>Keep GOING YOU ARE DOING GREA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atisse ITC"/>
              </a:rPr>
              <a:t>Landform with steep sides and usually flat on top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7480" y="1905120"/>
            <a:ext cx="4228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Lucida Blackletter"/>
              </a:rPr>
              <a:t>We are getting there almost d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Lucida Blackletter"/>
              </a:rPr>
              <a:t>A group of small is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19720" y="198108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e talked about this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s is a dried up river be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3809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바탕"/>
              </a:rPr>
              <a:t>What do we call this landf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, flat topped landform with steep sides, smaller than a plateau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57480" y="228600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we hav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lat low lying land built up by soil being carried down strea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9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I think this will be an easy one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nd with water on all 4 sid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4077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am going to show you a group of different landforms and waterway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Your job is to identify each of them after I give you a brief descriptio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ady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n you guess this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dy of water extending into the land…smaller than a gulf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400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 few more to 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rrow strip of land connecting 2 larger pieces of 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5748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cZee"/>
              </a:rPr>
              <a:t>THIS IS IT…LAST ON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cZee"/>
              </a:rPr>
              <a:t>Area of level land, usually at low elevations and covered with gras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43434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Perdy"/>
              </a:rPr>
              <a:t>SUPER JOB ALL OF YOU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Perdy"/>
              </a:rPr>
              <a:t>Lets go over them to see how well you did, I am sure you did well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ody of water surrounded by land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152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NAME THI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Landform with steep sides and capped with snow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area of land in between mountains and hill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is is call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mass of slow moving ice across the land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3733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encil"/>
              </a:rPr>
              <a:t>Can you name this body of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rge body of water with land on 3 sides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4000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What do we have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maller river flowing into a larger rive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7480" y="2133720"/>
            <a:ext cx="40766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idea what we hav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badi MT Condensed Light"/>
              </a:rPr>
              <a:t>Land with water on 3 sid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7480" y="19810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3:44:19Z</dcterms:created>
  <dc:creator>Snyder</dc:creator>
  <dc:description/>
  <dc:language>en-US</dc:language>
  <cp:lastModifiedBy>dansnyder</cp:lastModifiedBy>
  <dcterms:modified xsi:type="dcterms:W3CDTF">2008-11-19T19:23:32Z</dcterms:modified>
  <cp:revision>2</cp:revision>
  <dc:subject/>
  <dc:title>LANDFORMS AND WATERWAYS</dc:title>
</cp:coreProperties>
</file>